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0063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C32-B2D4-4099-A443-1DE314CD3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6EF-B817-47BA-805B-A150DE7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18B-1FD1-4433-AAB3-7CF93F4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F9F-0083-48B9-BC18-CF9FBAB0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15E-69A3-4E1B-8F58-5C5F6C73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D56-9493-4E43-93BC-4315FDF7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480-BA63-475F-BF52-B7401E94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338-1F9D-4889-8DBB-D251F672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F32-4AD3-47D1-B508-FD9AF45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D7F-C197-4C11-9F0D-05F1B8A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C89-0DFE-4868-8555-276BAD5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6D9-30E8-408B-A7B5-F3385FA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C974-43CD-4ADE-9141-B3A717993F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starbucks.com/shop/product.asp?catalog%5Fname=Starbucks&amp;category%5Fname=Brewing+%26+Serving&amp;product%5Fid=Floral+Hartstone+Mugs%2C+Set+of+4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starbucks.com/grocery/coffee.asp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starbucks.com/shop/product.asp?catalog%5Fname=Starbucks&amp;category%5Fname=Coffee&amp;product%5Fid=Fair+Trade+coffee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starbucks.com/grocery/icecream.asp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storefron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79560" y="838080"/>
            <a:ext cx="5613480" cy="1524240"/>
          </a:xfrm>
          <a:prstGeom prst="rect">
            <a:avLst/>
          </a:prstGeom>
          <a:noFill/>
          <a:ln w="57240">
            <a:solidFill>
              <a:srgbClr val="fff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ad"/>
                </a:solidFill>
                <a:latin typeface="굴림"/>
              </a:rPr>
              <a:t>마케팅 사례연구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starbucks_homepage" descr=""/>
          <p:cNvPicPr/>
          <p:nvPr/>
        </p:nvPicPr>
        <p:blipFill>
          <a:blip r:embed="rId2"/>
          <a:stretch/>
        </p:blipFill>
        <p:spPr>
          <a:xfrm>
            <a:off x="-973080" y="347508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35812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3100320"/>
            <a:ext cx="23623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538776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조성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642959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박형열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727044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윤대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9944812   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전득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5154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안희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8799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고소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200044527  </a:t>
            </a:r>
            <a:r>
              <a:rPr b="1" lang="ko-KR" sz="1800" spc="-1" strike="noStrike">
                <a:solidFill>
                  <a:srgbClr val="ffffad"/>
                </a:solidFill>
                <a:latin typeface="굴림"/>
              </a:rPr>
              <a:t>김형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648320" y="1066680"/>
            <a:ext cx="4419360" cy="2743200"/>
            <a:chOff x="4648320" y="1066680"/>
            <a:chExt cx="4419360" cy="2743200"/>
          </a:xfrm>
        </p:grpSpPr>
        <p:sp>
          <p:nvSpPr>
            <p:cNvPr id="100" name=""/>
            <p:cNvSpPr/>
            <p:nvPr/>
          </p:nvSpPr>
          <p:spPr>
            <a:xfrm>
              <a:off x="4648320" y="106668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Weaknesse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8320" y="152388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경쟁사에 비해 높은 가격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무리한 사업 확장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35360" y="3962520"/>
            <a:ext cx="4419360" cy="2743200"/>
            <a:chOff x="4635360" y="3962520"/>
            <a:chExt cx="4419360" cy="2743200"/>
          </a:xfrm>
        </p:grpSpPr>
        <p:sp>
          <p:nvSpPr>
            <p:cNvPr id="103" name=""/>
            <p:cNvSpPr/>
            <p:nvPr/>
          </p:nvSpPr>
          <p:spPr>
            <a:xfrm>
              <a:off x="4635360" y="39625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Threat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5360" y="44197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경쟁사들의 저가 프리미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  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 출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일반 소매음료 시장의 확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6320" y="3960720"/>
            <a:ext cx="4419360" cy="2743200"/>
            <a:chOff x="76320" y="3960720"/>
            <a:chExt cx="4419360" cy="2743200"/>
          </a:xfrm>
        </p:grpSpPr>
        <p:sp>
          <p:nvSpPr>
            <p:cNvPr id="106" name=""/>
            <p:cNvSpPr/>
            <p:nvPr/>
          </p:nvSpPr>
          <p:spPr>
            <a:xfrm>
              <a:off x="76320" y="39607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Opportunities</a:t>
              </a:r>
              <a:r>
                <a:rPr b="0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320" y="44179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시장의 분할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인스턴트 커피시장 축소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소비자의 커피의식 변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3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WOT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trength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고급 원두사용 커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다양한 상품과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일관된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image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의 매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차별화된 유통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eakness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경쟁사에 비해 높은 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무리한 사업 확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경쟁사들의 저가 프리미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 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일반 소매음료 시장의 확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Opportunities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시장의 분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인스턴트 커피시장 축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소비자의 커피의식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14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4P mix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변수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4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648320" y="1066680"/>
            <a:ext cx="4419360" cy="2743200"/>
            <a:chOff x="4648320" y="1066680"/>
            <a:chExt cx="4419360" cy="2743200"/>
          </a:xfrm>
        </p:grpSpPr>
        <p:sp>
          <p:nvSpPr>
            <p:cNvPr id="150" name=""/>
            <p:cNvSpPr/>
            <p:nvPr/>
          </p:nvSpPr>
          <p:spPr>
            <a:xfrm>
              <a:off x="4648320" y="106668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8320" y="152388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커피 상품 판매가격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Item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상품 판매가격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635360" y="3962520"/>
            <a:ext cx="4419360" cy="2743200"/>
            <a:chOff x="4635360" y="3962520"/>
            <a:chExt cx="4419360" cy="2743200"/>
          </a:xfrm>
        </p:grpSpPr>
        <p:sp>
          <p:nvSpPr>
            <p:cNvPr id="153" name=""/>
            <p:cNvSpPr/>
            <p:nvPr/>
          </p:nvSpPr>
          <p:spPr>
            <a:xfrm>
              <a:off x="4635360" y="39625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5360" y="44197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Image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중심의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promotion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6320" y="3960720"/>
            <a:ext cx="4419360" cy="2743200"/>
            <a:chOff x="76320" y="3960720"/>
            <a:chExt cx="4419360" cy="2743200"/>
          </a:xfrm>
        </p:grpSpPr>
        <p:sp>
          <p:nvSpPr>
            <p:cNvPr id="156" name=""/>
            <p:cNvSpPr/>
            <p:nvPr/>
          </p:nvSpPr>
          <p:spPr>
            <a:xfrm>
              <a:off x="76320" y="3960720"/>
              <a:ext cx="4419360" cy="457200"/>
            </a:xfrm>
            <a:prstGeom prst="rect">
              <a:avLst/>
            </a:prstGeom>
            <a:solidFill>
              <a:srgbClr val="ffcc99"/>
            </a:solidFill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Place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20" y="4417920"/>
              <a:ext cx="4419360" cy="2286000"/>
            </a:xfrm>
            <a:prstGeom prst="rect">
              <a:avLst/>
            </a:prstGeom>
            <a:noFill/>
            <a:ln cap="sq" w="5724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r>
                <a:rPr b="1" lang="en-US" sz="2400" spc="-1" strike="noStrike">
                  <a:solidFill>
                    <a:srgbClr val="ffcc99"/>
                  </a:solidFill>
                  <a:latin typeface="굴림"/>
                </a:rPr>
                <a:t>- </a:t>
              </a:r>
              <a:r>
                <a:rPr b="1" lang="zh-CN" sz="2400" spc="-1" strike="noStrike">
                  <a:solidFill>
                    <a:srgbClr val="ffcc99"/>
                  </a:solidFill>
                  <a:latin typeface="굴림"/>
                </a:rPr>
                <a:t>다양한 유통 채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159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roduc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최고급 아라비카산 원두의 강렬한 맛의 커피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매장에서 직접 구매 가능한 스타벅스 팬시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item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800" spc="-1" strike="noStrike">
                  <a:solidFill>
                    <a:srgbClr val="000000"/>
                  </a:solidFill>
                  <a:latin typeface="굴림"/>
                </a:rPr>
                <a:t>각종 시럽 및 커피원두의 포장 판매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62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425520" y="1289160"/>
            <a:ext cx="8337600" cy="5263920"/>
            <a:chOff x="425520" y="1289160"/>
            <a:chExt cx="8337600" cy="5263920"/>
          </a:xfrm>
        </p:grpSpPr>
        <p:sp>
          <p:nvSpPr>
            <p:cNvPr id="176" name=""/>
            <p:cNvSpPr/>
            <p:nvPr/>
          </p:nvSpPr>
          <p:spPr>
            <a:xfrm>
              <a:off x="425520" y="1289160"/>
              <a:ext cx="8337600" cy="8776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rice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5520" y="2166840"/>
              <a:ext cx="8337600" cy="4386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7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572000" y="2133720"/>
            <a:ext cx="0" cy="441936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2371680" y="2133720"/>
            <a:ext cx="0" cy="4419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2133720"/>
            <a:ext cx="0" cy="4419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44400" y="2409840"/>
            <a:ext cx="3851280" cy="797400"/>
            <a:chOff x="644400" y="2409840"/>
            <a:chExt cx="3851280" cy="797400"/>
          </a:xfrm>
        </p:grpSpPr>
        <p:sp>
          <p:nvSpPr>
            <p:cNvPr id="185" name=""/>
            <p:cNvSpPr/>
            <p:nvPr/>
          </p:nvSpPr>
          <p:spPr>
            <a:xfrm>
              <a:off x="644400" y="24098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이스라떼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9160" y="2425680"/>
              <a:ext cx="203652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38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tall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43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grande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42960" y="379404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카라멜 프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푸치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459160" y="3808440"/>
            <a:ext cx="203652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70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tall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4500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(grand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42960" y="5241960"/>
            <a:ext cx="3852720" cy="795960"/>
            <a:chOff x="642960" y="5241960"/>
            <a:chExt cx="3852720" cy="795960"/>
          </a:xfrm>
        </p:grpSpPr>
        <p:sp>
          <p:nvSpPr>
            <p:cNvPr id="190" name=""/>
            <p:cNvSpPr/>
            <p:nvPr/>
          </p:nvSpPr>
          <p:spPr>
            <a:xfrm>
              <a:off x="642960" y="52419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카페모카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59160" y="5256360"/>
              <a:ext cx="203652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36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tall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450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원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(grande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724280" y="2362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이 프린트 된 머그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4713120" y="38098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브랜드 로고가 들어간 커피 보온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2362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∼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94668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천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원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860400" y="685800"/>
            <a:ext cx="7651800" cy="1371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굴림"/>
              </a:rPr>
              <a:t>커피 한잔에 담긴 성공신화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starbucks_homepage" descr=""/>
          <p:cNvPicPr/>
          <p:nvPr/>
        </p:nvPicPr>
        <p:blipFill>
          <a:blip r:embed="rId1"/>
          <a:stretch/>
        </p:blipFill>
        <p:spPr>
          <a:xfrm>
            <a:off x="-973080" y="347508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05320" y="2666880"/>
          <a:ext cx="2209680" cy="22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666880"/>
                    <a:ext cx="22096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438280" y="5410080"/>
            <a:ext cx="4216680" cy="892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굴림"/>
              </a:rPr>
              <a:t>마 케 팅 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08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Place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쉐라톤 호텔 입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United Airline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기내 남품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사무실내 커피 공급업체 지정 채택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미국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대형 서점내 입점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(Barnes &amp; Noble /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미국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일반 슈퍼마켓을 통한 대중적 판매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1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14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6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1523880"/>
            <a:ext cx="4419360" cy="22860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ko-KR" sz="2400" spc="-1" strike="noStrike">
                <a:solidFill>
                  <a:srgbClr val="ffcc99"/>
                </a:solidFill>
                <a:latin typeface="굴림"/>
              </a:rPr>
              <a:t>타브랜드와 차별화된 상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06668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648320" y="152388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커피 상품 판매가격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Item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상품 판매가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635360" y="3962520"/>
            <a:ext cx="4419720" cy="45720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635360" y="4419720"/>
            <a:ext cx="4419720" cy="2286000"/>
          </a:xfrm>
          <a:prstGeom prst="rect">
            <a:avLst/>
          </a:prstGeom>
          <a:noFill/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Image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중심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3960720"/>
            <a:ext cx="4419360" cy="457200"/>
          </a:xfrm>
          <a:prstGeom prst="rect">
            <a:avLst/>
          </a:prstGeom>
          <a:solidFill>
            <a:srgbClr val="ffcc99"/>
          </a:solidFill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76320" y="4417920"/>
            <a:ext cx="4419360" cy="2286000"/>
          </a:xfrm>
          <a:prstGeom prst="rect">
            <a:avLst/>
          </a:prstGeom>
          <a:noFill/>
          <a:ln cap="sq" w="572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cc99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ffcc99"/>
                </a:solidFill>
                <a:latin typeface="굴림"/>
              </a:rPr>
              <a:t>다양한 유통 채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25520" y="1219320"/>
            <a:ext cx="8337600" cy="79524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425520" y="2014560"/>
            <a:ext cx="8337600" cy="207792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조화와 대조의 균형을 이룬 미학적 마케팅 전략으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일된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imag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만들기 주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영화속 등장배경을 통한 간접 광고 효과 도출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(PPL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27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4P mix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886200" y="4267080"/>
            <a:ext cx="12952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501480" y="5084640"/>
            <a:ext cx="8337600" cy="1621080"/>
          </a:xfrm>
          <a:prstGeom prst="rect">
            <a:avLst/>
          </a:pr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스타벅스는 직접보다는 간접광고와 구전효과에 중점을 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23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S/T/P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38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Segment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시장의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3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분할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인스턴트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고급 프리미엄 원두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고급 향 커피 시장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843120" y="33130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42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25520" y="1447920"/>
            <a:ext cx="8337240" cy="4749120"/>
            <a:chOff x="425520" y="1447920"/>
            <a:chExt cx="8337240" cy="4749120"/>
          </a:xfrm>
        </p:grpSpPr>
        <p:sp>
          <p:nvSpPr>
            <p:cNvPr id="245" name=""/>
            <p:cNvSpPr/>
            <p:nvPr/>
          </p:nvSpPr>
          <p:spPr>
            <a:xfrm>
              <a:off x="425520" y="1447920"/>
              <a:ext cx="8337240" cy="791280"/>
            </a:xfrm>
            <a:prstGeom prst="rect">
              <a:avLst/>
            </a:prstGeom>
            <a:solidFill>
              <a:srgbClr val="ff6600"/>
            </a:solid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굴림"/>
                </a:rPr>
                <a:t>Targeting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5520" y="2239200"/>
              <a:ext cx="8337240" cy="395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cap="sq"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타게팅 대상 선정 요인</a:t>
              </a: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endParaRPr b="0" lang="en-US" sz="2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굴림"/>
                </a:rPr>
                <a:t>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20, 30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대 젊고 활동적인층이 주도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유럽풍 커피문화 선호 고객 증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기존커피에 식상한 애호가들 상당수 존재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     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-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</a:rPr>
                <a:t>커피에 대한 인식 변화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843120" y="31240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3429000"/>
            <a:ext cx="3490920" cy="2498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5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</a:t>
              </a: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/T/P 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분석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25520" y="1193760"/>
            <a:ext cx="8337600" cy="792360"/>
          </a:xfrm>
          <a:prstGeom prst="rect">
            <a:avLst/>
          </a:prstGeom>
          <a:solidFill>
            <a:srgbClr val="ff6600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Positioning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25520" y="2039760"/>
            <a:ext cx="8337600" cy="456732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스타벅스 기업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-  </a:t>
            </a:r>
            <a:r>
              <a:rPr b="1" lang="ko-KR" sz="2400" spc="-1" strike="noStrike">
                <a:solidFill>
                  <a:srgbClr val="ff6600"/>
                </a:solidFill>
                <a:latin typeface="굴림"/>
              </a:rPr>
              <a:t>최고의 품질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1" lang="ko-KR" sz="2400" spc="-1" strike="noStrike">
                <a:solidFill>
                  <a:srgbClr val="ff6600"/>
                </a:solidFill>
                <a:latin typeface="굴림"/>
              </a:rPr>
              <a:t>우리들만의 문화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를 판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843120" y="2209680"/>
            <a:ext cx="320400" cy="2732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925560" y="3603600"/>
            <a:ext cx="34797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굴림"/>
              </a:rPr>
              <a:t>최고의 품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4865760" y="3581280"/>
            <a:ext cx="354636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6600"/>
                </a:solidFill>
                <a:uFillTx/>
                <a:latin typeface="굴림"/>
              </a:rPr>
              <a:t>우리들만의 문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4038480"/>
            <a:ext cx="3489480" cy="1448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최대의 직원만족 실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프랜차이즈가 아닌 직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스토어만 운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4038480"/>
            <a:ext cx="3525840" cy="195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성공적인 디자인경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독특하고 신비감을 주는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상표로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오감의 절묘한 조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 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효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290520" y="1343160"/>
            <a:ext cx="8632800" cy="1780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제품 하나가 혁신을 이뤄 성공하면 해당 제품 카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고리 전체를 프리미엄급으로 격상시키는 효과를 말한다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429000"/>
            <a:ext cx="2174760" cy="68580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사   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74680" y="4432320"/>
            <a:ext cx="8636040" cy="204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몇해전 ‘김삿갓’과 ‘참나무통 맑은소주’등의 프리미엄 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주의 히트로 국내 소주시장 전체가 프리미엄급의 소주시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장으로 격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미국 시장에서의 </a:t>
            </a: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 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효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371600" y="1523880"/>
          <a:ext cx="697716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7716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미국의 다른음료에 대한 커피소비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611280" y="1666800"/>
          <a:ext cx="8151840" cy="416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66800"/>
                    <a:ext cx="8151840" cy="41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609480" y="5867280"/>
            <a:ext cx="81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na=not available.  Source: National Coffee Association of USA, 199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19440" y="2286000"/>
            <a:ext cx="1905120" cy="1676520"/>
          </a:xfrm>
          <a:custGeom>
            <a:avLst/>
            <a:gdLst>
              <a:gd name="textAreaLeft" fmla="*/ 108360 w 1905120"/>
              <a:gd name="textAreaRight" fmla="*/ 1796760 w 19051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5" h="21600">
                <a:moveTo>
                  <a:pt x="0" y="0"/>
                </a:moveTo>
                <a:lnTo>
                  <a:pt x="24545" y="0"/>
                </a:lnTo>
                <a:lnTo>
                  <a:pt x="24545" y="21600"/>
                </a:lnTo>
                <a:lnTo>
                  <a:pt x="0" y="21600"/>
                </a:lnTo>
                <a:close/>
              </a:path>
              <a:path fill="lightenLess" w="24545" h="21600">
                <a:moveTo>
                  <a:pt x="0" y="0"/>
                </a:moveTo>
                <a:lnTo>
                  <a:pt x="24545" y="0"/>
                </a:lnTo>
                <a:lnTo>
                  <a:pt x="23145" y="1400"/>
                </a:lnTo>
                <a:lnTo>
                  <a:pt x="1400" y="1400"/>
                </a:lnTo>
                <a:close/>
              </a:path>
              <a:path fill="darken" w="24545" h="21600">
                <a:moveTo>
                  <a:pt x="24545" y="0"/>
                </a:moveTo>
                <a:lnTo>
                  <a:pt x="24545" y="21600"/>
                </a:lnTo>
                <a:lnTo>
                  <a:pt x="23145" y="20200"/>
                </a:lnTo>
                <a:lnTo>
                  <a:pt x="23145" y="1400"/>
                </a:lnTo>
                <a:close/>
              </a:path>
              <a:path fill="darkenLess" w="24545" h="21600">
                <a:moveTo>
                  <a:pt x="24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5" y="20200"/>
                </a:lnTo>
                <a:close/>
              </a:path>
              <a:path fill="lighten" w="24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5" h="21600">
                <a:moveTo>
                  <a:pt x="5266" y="7301"/>
                </a:moveTo>
                <a:lnTo>
                  <a:pt x="6180" y="7301"/>
                </a:lnTo>
                <a:lnTo>
                  <a:pt x="6563" y="7667"/>
                </a:lnTo>
                <a:lnTo>
                  <a:pt x="15771" y="7667"/>
                </a:lnTo>
                <a:lnTo>
                  <a:pt x="16328" y="8224"/>
                </a:lnTo>
                <a:lnTo>
                  <a:pt x="16328" y="8772"/>
                </a:lnTo>
                <a:lnTo>
                  <a:pt x="18173" y="8772"/>
                </a:lnTo>
                <a:lnTo>
                  <a:pt x="18539" y="8224"/>
                </a:lnTo>
                <a:lnTo>
                  <a:pt x="19279" y="8224"/>
                </a:lnTo>
                <a:lnTo>
                  <a:pt x="19279" y="13376"/>
                </a:lnTo>
                <a:lnTo>
                  <a:pt x="18539" y="13376"/>
                </a:lnTo>
                <a:lnTo>
                  <a:pt x="18173" y="12828"/>
                </a:lnTo>
                <a:lnTo>
                  <a:pt x="16328" y="12828"/>
                </a:lnTo>
                <a:lnTo>
                  <a:pt x="16328" y="14107"/>
                </a:lnTo>
                <a:lnTo>
                  <a:pt x="6745" y="14107"/>
                </a:lnTo>
                <a:lnTo>
                  <a:pt x="6745" y="9877"/>
                </a:lnTo>
                <a:lnTo>
                  <a:pt x="6563" y="9877"/>
                </a:lnTo>
                <a:lnTo>
                  <a:pt x="6180" y="10243"/>
                </a:lnTo>
                <a:lnTo>
                  <a:pt x="5266" y="10243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7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7" name="그림%20스타자료" descr=""/>
          <p:cNvPicPr/>
          <p:nvPr/>
        </p:nvPicPr>
        <p:blipFill>
          <a:blip r:embed="rId1"/>
          <a:stretch/>
        </p:blipFill>
        <p:spPr>
          <a:xfrm>
            <a:off x="1371600" y="1359000"/>
            <a:ext cx="6546960" cy="4279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2004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전략적 입지 선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4290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매 장 전 경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3" name="그림%20스타자료2" descr=""/>
          <p:cNvPicPr/>
          <p:nvPr/>
        </p:nvPicPr>
        <p:blipFill>
          <a:blip r:embed="rId1"/>
          <a:stretch/>
        </p:blipFill>
        <p:spPr>
          <a:xfrm>
            <a:off x="1158840" y="1219320"/>
            <a:ext cx="6994440" cy="45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285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4000" spc="-1" strike="noStrike">
                  <a:solidFill>
                    <a:srgbClr val="ffff9b"/>
                  </a:solidFill>
                  <a:latin typeface="굴림"/>
                </a:rPr>
                <a:t>스타벅스 참고자료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38080" y="1295280"/>
            <a:ext cx="7772040" cy="5258160"/>
            <a:chOff x="838080" y="1295280"/>
            <a:chExt cx="7772040" cy="5258160"/>
          </a:xfrm>
        </p:grpSpPr>
        <p:grpSp>
          <p:nvGrpSpPr>
            <p:cNvPr id="288" name=""/>
            <p:cNvGrpSpPr/>
            <p:nvPr/>
          </p:nvGrpSpPr>
          <p:grpSpPr>
            <a:xfrm>
              <a:off x="1059480" y="1505520"/>
              <a:ext cx="1608840" cy="2140920"/>
              <a:chOff x="1059480" y="1505520"/>
              <a:chExt cx="1608840" cy="2140920"/>
            </a:xfrm>
          </p:grpSpPr>
          <p:pic>
            <p:nvPicPr>
              <p:cNvPr id="289" name="frap_mocha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5760" y="1505520"/>
                <a:ext cx="687960" cy="1837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0" name=""/>
              <p:cNvGrpSpPr/>
              <p:nvPr/>
            </p:nvGrpSpPr>
            <p:grpSpPr>
              <a:xfrm>
                <a:off x="1059480" y="3350880"/>
                <a:ext cx="1608840" cy="295560"/>
                <a:chOff x="1059480" y="3350880"/>
                <a:chExt cx="1608840" cy="295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059480" y="3350880"/>
                  <a:ext cx="1608840" cy="295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1059480" y="3350880"/>
                  <a:ext cx="1608840" cy="295200"/>
                  <a:chOff x="1059480" y="3350880"/>
                  <a:chExt cx="1608840" cy="29520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1059480" y="3350880"/>
                    <a:ext cx="16088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059480" y="3350880"/>
                    <a:ext cx="1608840" cy="2952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ko-KR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Bottled Frappuccin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  <p:grpSp>
          <p:nvGrpSpPr>
            <p:cNvPr id="295" name=""/>
            <p:cNvGrpSpPr/>
            <p:nvPr/>
          </p:nvGrpSpPr>
          <p:grpSpPr>
            <a:xfrm>
              <a:off x="3606120" y="2487240"/>
              <a:ext cx="2301480" cy="2287440"/>
              <a:chOff x="3606120" y="2487240"/>
              <a:chExt cx="2301480" cy="2287440"/>
            </a:xfrm>
          </p:grpSpPr>
          <p:pic>
            <p:nvPicPr>
              <p:cNvPr id="296" name="167220_b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3606120" y="2487240"/>
                <a:ext cx="2235960" cy="22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3690360" y="4559040"/>
                <a:ext cx="2217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800" spc="-1" strike="noStrike">
                    <a:solidFill>
                      <a:srgbClr val="000000"/>
                    </a:solidFill>
                    <a:latin typeface="Verdana"/>
                  </a:rPr>
                  <a:t>Floral Hartstone Mugs</a:t>
                </a:r>
                <a:endParaRPr b="0" lang="en-US" sz="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838080" y="4301640"/>
              <a:ext cx="2103120" cy="2251800"/>
              <a:chOff x="838080" y="4301640"/>
              <a:chExt cx="2103120" cy="2251800"/>
            </a:xfrm>
          </p:grpSpPr>
          <p:pic>
            <p:nvPicPr>
              <p:cNvPr id="299" name="sg0_coffeeimage" descr="">
                <a:hlinkClick r:id="rId4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1112040" y="4301640"/>
                <a:ext cx="1371960" cy="1833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0" name=""/>
              <p:cNvGrpSpPr/>
              <p:nvPr/>
            </p:nvGrpSpPr>
            <p:grpSpPr>
              <a:xfrm>
                <a:off x="838080" y="6134760"/>
                <a:ext cx="2103120" cy="418680"/>
                <a:chOff x="838080" y="6134760"/>
                <a:chExt cx="2103120" cy="418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38080" y="6134760"/>
                  <a:ext cx="2103120" cy="41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838080" y="6134760"/>
                  <a:ext cx="2103120" cy="418320"/>
                  <a:chOff x="838080" y="6134760"/>
                  <a:chExt cx="2103120" cy="4183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838080" y="6134760"/>
                    <a:ext cx="210312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38080" y="6134760"/>
                    <a:ext cx="2103120" cy="41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Starbucks® Coffe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  <p:pic>
          <p:nvPicPr>
            <p:cNvPr id="305" name="162507_b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426000" y="4055040"/>
              <a:ext cx="2184120" cy="2175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6591960" y="1295280"/>
              <a:ext cx="1499040" cy="1693800"/>
              <a:chOff x="6591960" y="1295280"/>
              <a:chExt cx="1499040" cy="1693800"/>
            </a:xfrm>
          </p:grpSpPr>
          <p:pic>
            <p:nvPicPr>
              <p:cNvPr id="307" name="sg0_icecreamimage" descr="">
                <a:hlinkClick r:id="rId8"/>
              </p:cNvPr>
              <p:cNvPicPr/>
              <p:nvPr/>
            </p:nvPicPr>
            <p:blipFill>
              <a:blip r:embed="rId9"/>
              <a:stretch/>
            </p:blipFill>
            <p:spPr>
              <a:xfrm>
                <a:off x="6591960" y="1295280"/>
                <a:ext cx="1499040" cy="141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"/>
              <p:cNvGrpSpPr/>
              <p:nvPr/>
            </p:nvGrpSpPr>
            <p:grpSpPr>
              <a:xfrm>
                <a:off x="6612120" y="2709360"/>
                <a:ext cx="1458360" cy="279720"/>
                <a:chOff x="6612120" y="2709360"/>
                <a:chExt cx="1458360" cy="279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12120" y="2709360"/>
                  <a:ext cx="1458360" cy="27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grpSp>
              <p:nvGrpSpPr>
                <p:cNvPr id="310" name=""/>
                <p:cNvGrpSpPr/>
                <p:nvPr/>
              </p:nvGrpSpPr>
              <p:grpSpPr>
                <a:xfrm>
                  <a:off x="6612120" y="2709360"/>
                  <a:ext cx="1458360" cy="279360"/>
                  <a:chOff x="6612120" y="2709360"/>
                  <a:chExt cx="1458360" cy="27936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6612120" y="2709360"/>
                    <a:ext cx="145836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612120" y="2709360"/>
                    <a:ext cx="1458360" cy="27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63416b"/>
                        </a:solidFill>
                        <a:latin typeface="Verdana"/>
                      </a:rPr>
                      <a:t>Starbucks® Ice Cream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314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결          론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성공요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254160" y="1676520"/>
            <a:ext cx="8635680" cy="4392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철저한 품질관리를 통한 최고의 제품 판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조화와 대조가 어울어진 스타벅스 특유의 통일된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스타일 정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차별화되고 남다른  유통전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사장과 직원이 아닌 사업 동반자로서의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partnership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ko-KR" sz="2600" spc="-1" strike="noStrike">
                <a:solidFill>
                  <a:srgbClr val="ffffff"/>
                </a:solidFill>
                <a:latin typeface="굴림"/>
              </a:rPr>
              <a:t>강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4633920"/>
            <a:ext cx="29664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038480"/>
            <a:ext cx="29664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819520"/>
            <a:ext cx="29664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544680" y="2263680"/>
            <a:ext cx="296640" cy="273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목         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143000"/>
            <a:ext cx="7183440" cy="63180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개요 및 탄생배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949400"/>
            <a:ext cx="7183440" cy="60012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S W O T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 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743200"/>
            <a:ext cx="7183440" cy="5745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P mix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변수분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3581280"/>
            <a:ext cx="7183440" cy="59688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S / T / P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 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058760" y="6010200"/>
            <a:ext cx="7183440" cy="5493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결               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4495680"/>
            <a:ext cx="7183440" cy="52416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스타벅스 효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1068480" y="5257800"/>
            <a:ext cx="7183440" cy="523800"/>
          </a:xfrm>
          <a:custGeom>
            <a:avLst/>
            <a:gdLst>
              <a:gd name="textAreaLeft" fmla="*/ 0 w 7183440"/>
              <a:gd name="textAreaRight" fmla="*/ 7183800 w 71834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스타벅스 참고자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66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개요 및 탄생배경 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rot="5400000">
            <a:off x="-2095920" y="3162240"/>
            <a:ext cx="5715000" cy="1219320"/>
          </a:xfrm>
          <a:custGeom>
            <a:avLst/>
            <a:gdLst>
              <a:gd name="textAreaLeft" fmla="*/ 0 w 5715000"/>
              <a:gd name="textAreaRight" fmla="*/ 5715360 w 57150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9" y="0"/>
                </a:lnTo>
                <a:lnTo>
                  <a:pt x="21600" y="10800"/>
                </a:lnTo>
                <a:lnTo>
                  <a:pt x="204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e1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 연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990720"/>
            <a:ext cx="8528040" cy="62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71   Seattle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Pike place market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에 첫번째 매장을 오픈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8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스타벅스 초기 창업자들에게 새로운 개념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bar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를 소개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∼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여기서의 성공을 바탕으로 슐츠회장은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5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년에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II giomale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이라는 개인회사를 설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7    II giomale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은 스타벅스 자산을 인수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이름을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starbucks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로 개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1988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최초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mail-order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서비스를 실시해 매일 전미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50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개주에 제공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스타벅수 보통주가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NASDAQ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에 상장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거래되기 시작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세계적인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Pepsi-cola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와 제휴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기본 커피음료 출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buClr>
                <a:srgbClr val="000000"/>
              </a:buClr>
              <a:buFont typeface="굴림"/>
              <a:buAutoNum type="arabicPlain" startAt="199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Frappuccino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라는 새로운 개념의 혼합음료 개발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판매개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일본의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SAZABY. INC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와 상표제휴를 통해 일본시장 입점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grand ice cream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과 장기간 협력을 통해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coffee ice cream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사업을 혁신시킴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100" spc="-1" strike="noStrike">
                <a:solidFill>
                  <a:srgbClr val="000000"/>
                </a:solidFill>
                <a:latin typeface="굴림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b"/>
                </a:solidFill>
                <a:latin typeface="굴림"/>
              </a:rPr>
              <a:t>Starbucks</a:t>
            </a:r>
            <a:r>
              <a:rPr b="1" lang="zh-CN" sz="4000" spc="-1" strike="noStrike">
                <a:solidFill>
                  <a:srgbClr val="ffff9b"/>
                </a:solidFill>
                <a:latin typeface="굴림"/>
              </a:rPr>
              <a:t>의 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4170240" cy="685800"/>
          </a:xfrm>
          <a:custGeom>
            <a:avLst/>
            <a:gdLst>
              <a:gd name="textAreaLeft" fmla="*/ 0 w 4170240"/>
              <a:gd name="textAreaRight" fmla="*/ 4170240 w 4170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스타벅스란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92240"/>
            <a:ext cx="8159760" cy="1079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현재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take-out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원두커피의 대명사로 강렬한 향의 커피와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잔잔한 음악과 조명이 어울어진 수준있는 문화공간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stor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29000"/>
            <a:ext cx="4170240" cy="685800"/>
          </a:xfrm>
          <a:custGeom>
            <a:avLst/>
            <a:gdLst>
              <a:gd name="textAreaLeft" fmla="*/ 0 w 4170240"/>
              <a:gd name="textAreaRight" fmla="*/ 4170240 w 41702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스타벅스 제품 특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432320"/>
            <a:ext cx="8159760" cy="2041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최고급 프리미엄 원두를 사용한 커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‘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스타벅스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roast’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과정을 통한 신맛과 단맛의 조화가 어우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러진 커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4834080"/>
            <a:ext cx="29700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773280" y="532620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81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b"/>
                  </a:solidFill>
                  <a:latin typeface="굴림"/>
                </a:rPr>
                <a:t>Starbucks</a:t>
              </a:r>
              <a:r>
                <a:rPr b="1" lang="zh-CN" sz="4000" spc="-1" strike="noStrike">
                  <a:solidFill>
                    <a:srgbClr val="ffff9b"/>
                  </a:solidFill>
                  <a:latin typeface="굴림"/>
                </a:rPr>
                <a:t>의  탄생배경</a:t>
              </a:r>
              <a:endParaRPr b="0" lang="en-US" sz="4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0" y="1143000"/>
            <a:ext cx="4514760" cy="685800"/>
          </a:xfrm>
          <a:custGeom>
            <a:avLst/>
            <a:gdLst>
              <a:gd name="textAreaLeft" fmla="*/ 0 w 4514760"/>
              <a:gd name="textAreaRight" fmla="*/ 4515120 w 451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이전 시장상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92240"/>
            <a:ext cx="8159760" cy="1403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80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년대 후반까지만 해도 커피는 값싼 기호 음료에 불과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ko-KR" sz="2200" spc="-1" strike="noStrike">
                <a:solidFill>
                  <a:srgbClr val="ffffff"/>
                </a:solidFill>
                <a:latin typeface="굴림"/>
              </a:rPr>
              <a:t>기업들은 비용 절감을 위해 향과 질 무시된 값싼 커피도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886200"/>
            <a:ext cx="4503600" cy="685800"/>
          </a:xfrm>
          <a:custGeom>
            <a:avLst/>
            <a:gdLst>
              <a:gd name="textAreaLeft" fmla="*/ 0 w 4503600"/>
              <a:gd name="textAreaRight" fmla="*/ 4503960 w 45036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89" y="0"/>
                </a:lnTo>
                <a:lnTo>
                  <a:pt x="21600" y="10800"/>
                </a:lnTo>
                <a:lnTo>
                  <a:pt x="211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66"/>
              </a:gs>
              <a:gs pos="50000">
                <a:srgbClr val="ffffff"/>
              </a:gs>
              <a:gs pos="100000">
                <a:srgbClr val="00cc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새로운 패러다임의 등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830840"/>
            <a:ext cx="8159760" cy="1643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</a:rPr>
              <a:t>고급 프리미엄 원두 커피 선언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굴림"/>
              </a:rPr>
              <a:t>새로운 개념의 커피숍 문화 도입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771480" y="5272200"/>
            <a:ext cx="29700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73280" y="578340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73280" y="230832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73280" y="2832120"/>
            <a:ext cx="296640" cy="236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828800" y="1828800"/>
            <a:ext cx="5510160" cy="1353960"/>
            <a:chOff x="1828800" y="1828800"/>
            <a:chExt cx="5510160" cy="1353960"/>
          </a:xfrm>
        </p:grpSpPr>
        <p:sp>
          <p:nvSpPr>
            <p:cNvPr id="92" name=""/>
            <p:cNvSpPr/>
            <p:nvPr/>
          </p:nvSpPr>
          <p:spPr>
            <a:xfrm>
              <a:off x="1905120" y="1981080"/>
              <a:ext cx="5433840" cy="120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1828800"/>
              <a:ext cx="5410080" cy="12574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굴림"/>
                </a:rPr>
                <a:t>SWOT </a:t>
              </a:r>
              <a:r>
                <a:rPr b="1" lang="zh-CN" sz="4400" spc="-1" strike="noStrike">
                  <a:solidFill>
                    <a:srgbClr val="ffffff"/>
                  </a:solidFill>
                  <a:latin typeface="굴림"/>
                </a:rPr>
                <a:t>분석</a:t>
              </a:r>
              <a:endParaRPr b="0" lang="en-US" sz="4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4:28:44Z</dcterms:created>
  <dc:creator>박형열</dc:creator>
  <dc:description/>
  <dc:language>en-US</dc:language>
  <cp:lastModifiedBy>박형열</cp:lastModifiedBy>
  <dcterms:modified xsi:type="dcterms:W3CDTF">2001-03-29T14:01:26Z</dcterms:modified>
  <cp:revision>25</cp:revision>
  <dc:subject/>
  <dc:title>PowerPoint 프레젠테이션</dc:title>
</cp:coreProperties>
</file>